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17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297D-7646-4CB5-9D9C-A056B5AC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80FC-9EB3-402C-90E5-EB0889D8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BA7C-9C75-48E8-B85D-BEE273F4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E48E-BA85-4198-A1D6-13AF093D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A5B8-B2CE-4F0A-A3B3-E965F786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4F24-E25A-4A87-B523-59D9922B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C4BC-76AA-410E-9A6F-2E5F7082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6B2B-F235-45DE-AABA-4DABEA7E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D166-64BB-4788-910B-C4FB6422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3D54-5C0A-4A66-B7D0-29957016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4EA3-230C-43C3-8C29-7E644B37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24C-F82A-44F0-827F-825BE9A2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A2FB-583E-45AE-A661-FEA20A2C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FF53-C867-4D7D-A92A-5782F5D6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05CC-E989-4E27-9366-92BAC086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8613-706F-4BCA-B2FA-74DDA93C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5D0D-ADDA-4A84-8095-C42120AB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D3B1-2BA0-4443-9D76-48E57B3A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D759-0278-44B4-AADC-2E12F0CE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3F57-873B-4D6E-BEFE-0D85FFCA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43F9-5E4D-4B45-B64A-2AA05F08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F2F-089E-46A9-AF31-1C65BF60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FE34-959F-41FD-9D33-AA838E1F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67F1-B02D-42E8-8CB0-3896DDEA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B300-BFFE-4513-9D6C-F2C0B663F50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EB29-0A0E-49F3-9033-20EE50FFD06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9.xml"/><Relationship Id="rId3" Type="http://schemas.openxmlformats.org/officeDocument/2006/relationships/image" Target="../media/image14.jpe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image" Target="../media/image30.jpeg"/><Relationship Id="rId17" Type="http://schemas.openxmlformats.org/officeDocument/2006/relationships/image" Target="../media/image31.jpeg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242200" cy="2778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nit 20 Humo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123640" y="3357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ening and spea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4400" y="1905120"/>
            <a:ext cx="609480" cy="5331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57240">
            <a:solidFill>
              <a:srgbClr val="84547a"/>
            </a:solidFill>
            <a:miter/>
          </a:ln>
        </p:spPr>
      </p:pic>
      <p:pic>
        <p:nvPicPr>
          <p:cNvPr id="22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495680" y="13096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12952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473868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466236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43800" y="46483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138600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870200" y="2982960"/>
            <a:ext cx="5537160" cy="360"/>
            <a:chOff x="1870200" y="2982960"/>
            <a:chExt cx="5537160" cy="360"/>
          </a:xfrm>
        </p:grpSpPr>
        <p:sp>
          <p:nvSpPr>
            <p:cNvPr id="237" name=""/>
            <p:cNvSpPr/>
            <p:nvPr/>
          </p:nvSpPr>
          <p:spPr>
            <a:xfrm>
              <a:off x="1870200" y="298296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70200" y="298296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>
            <a:hlinkClick r:id="rId4" action="ppaction://hlinksldjump"/>
          </p:cNvPr>
          <p:cNvSpPr/>
          <p:nvPr/>
        </p:nvSpPr>
        <p:spPr>
          <a:xfrm>
            <a:off x="8153280" y="6248520"/>
            <a:ext cx="762120" cy="609480"/>
          </a:xfrm>
          <a:prstGeom prst="leftArrow">
            <a:avLst>
              <a:gd name="adj1" fmla="val 50000"/>
              <a:gd name="adj2" fmla="val 3126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228600"/>
            <a:ext cx="815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ask 3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: talking  about your favorite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comedians (group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68360" y="1341360"/>
          <a:ext cx="8351640" cy="4405320"/>
        </p:xfrm>
        <a:graphic>
          <a:graphicData uri="http://schemas.openxmlformats.org/drawingml/2006/table">
            <a:tbl>
              <a:tblPr/>
              <a:tblGrid>
                <a:gridCol w="6553080"/>
                <a:gridCol w="1798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tion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eriences before being a comed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to begin the perform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s of his perform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s why you like h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2286000" y="228600"/>
              <a:ext cx="48769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ff0000"/>
                  </a:solidFill>
                  <a:latin typeface="Monotype Corsiva"/>
                </a:rPr>
                <a:t>Art of Life</a:t>
              </a:r>
              <a:r>
                <a:rPr b="1" lang="en-US" sz="8000" spc="-1" strike="noStrike">
                  <a:solidFill>
                    <a:srgbClr val="ff0000"/>
                  </a:solidFill>
                  <a:latin typeface="Monotype Corsiva"/>
                </a:rPr>
                <a:t> 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0" y="2666880"/>
              <a:ext cx="9143640" cy="2209680"/>
              <a:chOff x="0" y="2666880"/>
              <a:chExt cx="9143640" cy="2209680"/>
            </a:xfrm>
          </p:grpSpPr>
          <p:pic>
            <p:nvPicPr>
              <p:cNvPr id="2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2666880"/>
                <a:ext cx="205200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11680" y="2666880"/>
                <a:ext cx="223344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185000" y="2666880"/>
                <a:ext cx="230580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38960" y="2666880"/>
                <a:ext cx="270468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474720"/>
                <a:ext cx="205200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011680" y="3474720"/>
                <a:ext cx="223344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185000" y="3474720"/>
                <a:ext cx="230580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438960" y="3474720"/>
                <a:ext cx="270468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4150440"/>
                <a:ext cx="205200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011680" y="4167360"/>
                <a:ext cx="223344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185000" y="4150440"/>
                <a:ext cx="230580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438960" y="4167360"/>
                <a:ext cx="2704680" cy="70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8" name=""/>
            <p:cNvGrpSpPr/>
            <p:nvPr/>
          </p:nvGrpSpPr>
          <p:grpSpPr>
            <a:xfrm>
              <a:off x="8001000" y="228600"/>
              <a:ext cx="990720" cy="685440"/>
              <a:chOff x="8001000" y="228600"/>
              <a:chExt cx="990720" cy="685440"/>
            </a:xfrm>
          </p:grpSpPr>
          <p:pic>
            <p:nvPicPr>
              <p:cNvPr id="25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01000" y="228600"/>
                <a:ext cx="990720" cy="22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001000" y="620280"/>
                <a:ext cx="990720" cy="29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8001000" y="424440"/>
                <a:ext cx="990720" cy="213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2" name="" descr=""/>
            <p:cNvPicPr/>
            <p:nvPr/>
          </p:nvPicPr>
          <p:blipFill>
            <a:blip r:embed="rId17"/>
            <a:stretch/>
          </p:blipFill>
          <p:spPr>
            <a:xfrm>
              <a:off x="2286000" y="1447920"/>
              <a:ext cx="4114800" cy="833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4" name=""/>
            <p:cNvSpPr/>
            <p:nvPr/>
          </p:nvSpPr>
          <p:spPr>
            <a:xfrm>
              <a:off x="0" y="2057400"/>
              <a:ext cx="9144000" cy="48006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0" y="2286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7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ask 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: interview (pair 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One plays the part of Zhu Jun and the other a comedian. Zhu Jun now has invited the co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to attend the program </a:t>
            </a:r>
            <a:r>
              <a:rPr b="1" i="1" lang="en-US" sz="2800" spc="-1" strike="noStrike">
                <a:solidFill>
                  <a:srgbClr val="bd0f0b"/>
                </a:solidFill>
                <a:latin typeface="Comic Sans MS"/>
              </a:rPr>
              <a:t>art of life</a:t>
            </a: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2286000"/>
            <a:ext cx="86644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ollowing questions may be helpfu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did you begin your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do you usually do as a comed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you doing at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your plans for your next 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do you make people laug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will you stop working as a comed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8028000" y="4724280"/>
            <a:ext cx="1116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4e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333360"/>
            <a:ext cx="4647960" cy="6237000"/>
          </a:xfrm>
          <a:prstGeom prst="rect">
            <a:avLst/>
          </a:prstGeom>
          <a:solidFill>
            <a:srgbClr val="a36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ef66"/>
                </a:solidFill>
                <a:latin typeface="Times New Roman"/>
              </a:rPr>
              <a:t>Here is a sample interview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Hello. I’m Zhu Jun. Welcome to our program. May I ask you some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S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When did you begin your performanc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In 1985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What do you usually do as comed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I’m so glad you accepted my interview. And I hope your performance in fu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l be more pop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Thanks a 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219640" y="476280"/>
            <a:ext cx="3657600" cy="5263200"/>
            <a:chOff x="5219640" y="476280"/>
            <a:chExt cx="3657600" cy="5263200"/>
          </a:xfrm>
        </p:grpSpPr>
        <p:sp>
          <p:nvSpPr>
            <p:cNvPr id="272" name=""/>
            <p:cNvSpPr/>
            <p:nvPr/>
          </p:nvSpPr>
          <p:spPr>
            <a:xfrm>
              <a:off x="5219640" y="1258560"/>
              <a:ext cx="3657600" cy="4480920"/>
            </a:xfrm>
            <a:prstGeom prst="rect">
              <a:avLst/>
            </a:prstGeom>
            <a:noFill/>
            <a:ln w="57240">
              <a:solidFill>
                <a:srgbClr val="a36f9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will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’m going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intend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hope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plan/want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wish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’ve decided (not)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hope not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19640" y="476280"/>
              <a:ext cx="3651120" cy="642600"/>
            </a:xfrm>
            <a:prstGeom prst="rect">
              <a:avLst/>
            </a:prstGeom>
            <a:solidFill>
              <a:srgbClr val="a36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Useful expression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>
            <a:hlinkClick r:id="rId2" action="ppaction://hlinksldjump"/>
          </p:cNvPr>
          <p:cNvSpPr/>
          <p:nvPr/>
        </p:nvSpPr>
        <p:spPr>
          <a:xfrm>
            <a:off x="8028000" y="6165720"/>
            <a:ext cx="792000" cy="432000"/>
          </a:xfrm>
          <a:prstGeom prst="leftArrow">
            <a:avLst>
              <a:gd name="adj1" fmla="val 50000"/>
              <a:gd name="adj2" fmla="val 4583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7391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404640"/>
            <a:ext cx="73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ask 5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: live show (group wor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1268280"/>
            <a:ext cx="770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Perform a tongue twister, a joke, a crosstalk or some other programs in the group, then choose the best actor(s) or actress(es) to perform to the whole class. Attention: your performances should be finished within 2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ask 6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omework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Introduce Chinese crosstalk to your foreign pen-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1773360"/>
            <a:ext cx="83516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ok for useful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hange the information in the group and organize a short pass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ut up the passage of each group on the blackboard at the back of the classroom and appreciate the 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project should be finished within a week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395280" y="1052640"/>
            <a:ext cx="43178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Thank you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0" y="58680"/>
            <a:ext cx="9082080" cy="6697800"/>
            <a:chOff x="0" y="58680"/>
            <a:chExt cx="9082080" cy="669780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0" y="58680"/>
              <a:ext cx="9082080" cy="66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5867280" y="3200400"/>
              <a:ext cx="244656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4952880" y="457200"/>
              <a:ext cx="24624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3048120" y="2666880"/>
              <a:ext cx="24462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58" name="" descr=""/>
            <p:cNvPicPr/>
            <p:nvPr/>
          </p:nvPicPr>
          <p:blipFill>
            <a:blip r:embed="rId5"/>
            <a:stretch/>
          </p:blipFill>
          <p:spPr>
            <a:xfrm>
              <a:off x="797040" y="685800"/>
              <a:ext cx="2579400" cy="38862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58680"/>
            <a:ext cx="9082080" cy="6697800"/>
            <a:chOff x="0" y="58680"/>
            <a:chExt cx="9082080" cy="669780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0" y="58680"/>
              <a:ext cx="9082080" cy="66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5105520" y="1523880"/>
              <a:ext cx="3220920" cy="47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1143000" y="3352680"/>
              <a:ext cx="224460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"/>
            <a:stretch/>
          </p:blipFill>
          <p:spPr>
            <a:xfrm>
              <a:off x="2286000" y="609480"/>
              <a:ext cx="27036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38160">
            <a:solidFill>
              <a:srgbClr val="a36f98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sp>
          <p:nvSpPr>
            <p:cNvPr id="166" name=""/>
            <p:cNvSpPr/>
            <p:nvPr/>
          </p:nvSpPr>
          <p:spPr>
            <a:xfrm>
              <a:off x="156276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15920" y="0"/>
              <a:ext cx="54648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7904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3184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9496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4776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1088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040" y="0"/>
              <a:ext cx="54648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680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7960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4308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588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5864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11800" y="0"/>
              <a:ext cx="54648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7492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2772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684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7129800" cy="5040360"/>
          </a:xfrm>
          <a:prstGeom prst="rect">
            <a:avLst/>
          </a:prstGeom>
          <a:ln w="57240">
            <a:solidFill>
              <a:srgbClr val="fee0e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2268360" y="573408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laugh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ud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 flipH="1" rot="10800000">
            <a:off x="914400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940360" y="4005360"/>
            <a:ext cx="2667240" cy="2606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084720" y="476280"/>
            <a:ext cx="1752840" cy="1712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39640" y="476280"/>
            <a:ext cx="1676520" cy="1638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3564000" y="4653000"/>
            <a:ext cx="685800" cy="66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763640" y="1773360"/>
            <a:ext cx="4680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Humo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924360" y="2997360"/>
            <a:ext cx="3814560" cy="1368000"/>
            <a:chOff x="3924360" y="2997360"/>
            <a:chExt cx="3814560" cy="1368000"/>
          </a:xfrm>
        </p:grpSpPr>
        <p:sp>
          <p:nvSpPr>
            <p:cNvPr id="194" name=""/>
            <p:cNvSpPr/>
            <p:nvPr/>
          </p:nvSpPr>
          <p:spPr>
            <a:xfrm>
              <a:off x="3924360" y="2997360"/>
              <a:ext cx="3814560" cy="136800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65480" y="3270960"/>
              <a:ext cx="353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  <a:ea typeface="Times New Roman"/>
                </a:rPr>
                <a:t>humo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57200" y="304920"/>
            <a:ext cx="10058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what performances do we enjoy hum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50920" y="3213000"/>
            <a:ext cx="3744360" cy="1422720"/>
            <a:chOff x="250920" y="3213000"/>
            <a:chExt cx="3744360" cy="1422720"/>
          </a:xfrm>
        </p:grpSpPr>
        <p:sp>
          <p:nvSpPr>
            <p:cNvPr id="198" name=""/>
            <p:cNvSpPr/>
            <p:nvPr/>
          </p:nvSpPr>
          <p:spPr>
            <a:xfrm>
              <a:off x="250920" y="3213000"/>
              <a:ext cx="3744360" cy="78696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92800" y="3322800"/>
              <a:ext cx="2460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omedi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566880" y="3879000"/>
              <a:ext cx="428040" cy="18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076720" y="1052640"/>
            <a:ext cx="4066920" cy="2208600"/>
            <a:chOff x="5076720" y="1052640"/>
            <a:chExt cx="4066920" cy="2208600"/>
          </a:xfrm>
        </p:grpSpPr>
        <p:sp>
          <p:nvSpPr>
            <p:cNvPr id="202" name=""/>
            <p:cNvSpPr/>
            <p:nvPr/>
          </p:nvSpPr>
          <p:spPr>
            <a:xfrm>
              <a:off x="5076720" y="1052640"/>
              <a:ext cx="4066920" cy="171864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90560" y="1272960"/>
              <a:ext cx="36392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   </a:t>
              </a: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lowns’ performanc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397480" y="2525040"/>
              <a:ext cx="427680" cy="736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84360" y="4221000"/>
            <a:ext cx="5638320" cy="1752840"/>
            <a:chOff x="684360" y="4221000"/>
            <a:chExt cx="5638320" cy="1752840"/>
          </a:xfrm>
        </p:grpSpPr>
        <p:sp>
          <p:nvSpPr>
            <p:cNvPr id="206" name=""/>
            <p:cNvSpPr/>
            <p:nvPr/>
          </p:nvSpPr>
          <p:spPr>
            <a:xfrm>
              <a:off x="684360" y="4754520"/>
              <a:ext cx="4539960" cy="121932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97000" y="4983120"/>
              <a:ext cx="512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rosstalk show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246840" y="4221000"/>
              <a:ext cx="1024920" cy="609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95280" y="1125360"/>
            <a:ext cx="4541040" cy="2064600"/>
            <a:chOff x="395280" y="1125360"/>
            <a:chExt cx="4541040" cy="2064600"/>
          </a:xfrm>
        </p:grpSpPr>
        <p:sp>
          <p:nvSpPr>
            <p:cNvPr id="210" name=""/>
            <p:cNvSpPr/>
            <p:nvPr/>
          </p:nvSpPr>
          <p:spPr>
            <a:xfrm>
              <a:off x="395280" y="1125360"/>
              <a:ext cx="4308840" cy="173808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1560" y="1365840"/>
              <a:ext cx="4424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omedians’     performanc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189960" y="2789280"/>
              <a:ext cx="465840" cy="400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105520" y="4038480"/>
            <a:ext cx="4252320" cy="1998720"/>
            <a:chOff x="5105520" y="4038480"/>
            <a:chExt cx="4252320" cy="1998720"/>
          </a:xfrm>
        </p:grpSpPr>
        <p:sp>
          <p:nvSpPr>
            <p:cNvPr id="214" name=""/>
            <p:cNvSpPr/>
            <p:nvPr/>
          </p:nvSpPr>
          <p:spPr>
            <a:xfrm>
              <a:off x="5105520" y="4495680"/>
              <a:ext cx="4030200" cy="121932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63200" y="4724280"/>
              <a:ext cx="4094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tongue twister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32960" y="4038480"/>
              <a:ext cx="63180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0" y="0"/>
            <a:ext cx="9143640" cy="6781680"/>
            <a:chOff x="0" y="0"/>
            <a:chExt cx="9143640" cy="6781680"/>
          </a:xfrm>
        </p:grpSpPr>
        <p:sp>
          <p:nvSpPr>
            <p:cNvPr id="218" name=""/>
            <p:cNvSpPr/>
            <p:nvPr/>
          </p:nvSpPr>
          <p:spPr>
            <a:xfrm>
              <a:off x="0" y="2590560"/>
              <a:ext cx="9143640" cy="2362320"/>
            </a:xfrm>
            <a:prstGeom prst="rect">
              <a:avLst/>
            </a:prstGeom>
            <a:solidFill>
              <a:srgbClr val="fee0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0"/>
              <a:ext cx="9143640" cy="914400"/>
            </a:xfrm>
            <a:prstGeom prst="rect">
              <a:avLst/>
            </a:prstGeom>
            <a:solidFill>
              <a:srgbClr val="a369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914400"/>
              <a:ext cx="9143640" cy="167616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4952880"/>
              <a:ext cx="9143640" cy="182880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0" y="0"/>
            <a:ext cx="952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sk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:tongue twister competition(group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066680"/>
            <a:ext cx="8599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y bought some butter, but the butter was bitter, so she bought some better butter to make the bitter butter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wish to wish the wish you wish to wish, but if you wish the wish the witch wishes, I won’t wish the wish you wish to w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f  white chalk chalks white on a black blackboard, will black chalk chalk black on a white whiteboard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7620120" y="6095880"/>
            <a:ext cx="1523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228600"/>
            <a:ext cx="80773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ask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: listening and story-making (group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 Guess the picture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 Listen to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 Make up your own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657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07:13:11Z</dcterms:created>
  <dc:creator>Acer</dc:creator>
  <dc:description/>
  <dc:language>en-US</dc:language>
  <cp:lastModifiedBy>Acer</cp:lastModifiedBy>
  <dcterms:modified xsi:type="dcterms:W3CDTF">2005-05-16T04:10:27Z</dcterms:modified>
  <cp:revision>31</cp:revision>
  <dc:subject/>
  <dc:title>高中英语任务型听说研究课</dc:title>
</cp:coreProperties>
</file>